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1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02652-4E94-4E93-818E-59259347E24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5903-0A7E-4D30-BECC-13283BCB37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23B3A-5DBF-436A-8DBB-F2A8864960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896D-DB6D-4460-BB20-6FB241FF8B8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A6216-171B-4148-A44C-038F6B6013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B1BC7-D19D-4B1E-BD88-10203449AAC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3542A-4598-4CE4-887C-59B1E0F7BF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1400" spc="-1" strike="noStrike" u="sng">
              <a:solidFill>
                <a:srgbClr val="000000"/>
              </a:solidFill>
              <a:uFillTx/>
              <a:latin typeface="Times New Roman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A82BC-D8F1-48F2-AC2E-6714024F83A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A2AA6-83A0-4DF2-BDCD-2408071DF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1400" spc="-1" strike="noStrike" u="sng">
              <a:solidFill>
                <a:srgbClr val="000000"/>
              </a:solidFill>
              <a:uFillTx/>
              <a:latin typeface="Times New Roman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483ED-9688-4637-8EB6-221B756988E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92997-2CE8-47D7-97CB-D1F7513B0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B32FF-F9DC-45B2-8590-6700E62862B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D7C9F-025C-447A-A518-EAA431C4F8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CC5B-828C-4D37-82C7-426673E146C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540B7-0E29-4FE4-83FB-A5D3E2CB83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958BF-3B4E-4808-8F4B-4CF97D4F61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8219A-C10E-43BD-8853-2E1EA698CC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9708-7A88-4599-BB88-12AD81C633B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BBF3-139C-47BB-8B45-A64235CEF4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5133F-454E-48D7-94ED-9EFD6B684B9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E3ADD-F219-4A7B-900D-06456BEF56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7E364-F996-4469-A4D5-BD632E627B1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00C38-1F8C-47A3-B309-0A5866A6D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194CB-981E-4134-80CB-C3408BCBE18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D727E-93EB-495D-B287-C31C26565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BCF32-4A3B-4C2B-B717-38B3DC844A0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2B5C-5162-4F45-86F4-8493D76C3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08A47-1F68-42B6-BC3B-6079599776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86766-A1E1-4ABC-AE6C-28952964D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3796-14E2-4307-BDFF-A0E85C4163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B8A6-F8B1-4069-94B0-F5AB39A3B6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46E65-3CD7-40CA-B8AB-3F66E7C02A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223BC-E3AB-4E01-AF81-1840787015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4BA1-6F72-4885-A240-67E68CF05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383000"/>
            <a:ext cx="7769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D62E-3647-40D8-B59B-0A971A89C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8300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38300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D007-4721-4D61-89C5-87D5ABAF2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383000"/>
            <a:ext cx="2501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383000"/>
            <a:ext cx="2501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383000"/>
            <a:ext cx="25012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FE2C-1058-4C6C-AA70-882DC09595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90DF-E2A4-48ED-A173-5E77B66C9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D7FD-1CFA-4FB5-83DB-56CCFFE0C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0C8A-2BD0-4E5C-A562-EF4C846F2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8999-E994-40B4-B3DD-C2E1647BF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815004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A501-F228-4DFE-898E-B6B9410B5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38300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E7A7-1931-417F-B350-6E4814959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38300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2225-7D5B-4C89-86DB-802AAB104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383000"/>
            <a:ext cx="77691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617A-D8EC-4C46-90E9-84059A8E8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25D8E-6546-48CF-A702-2BC4E6ABA37C}" type="slidenum">
              <a:rPr b="0" lang="fr-FR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ANALYSE A PRIORI DES RISQU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08000" y="907920"/>
            <a:ext cx="8928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PPLICATIONS DE SITUATION DE TRAVAIL SUR LE PALETTICC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Image 1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68836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22" name="AutoShape 3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76320" y="1522440"/>
              <a:ext cx="1520640" cy="75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révention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trinsèque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4" name="Text Box 5"/>
          <p:cNvSpPr/>
          <p:nvPr/>
        </p:nvSpPr>
        <p:spPr>
          <a:xfrm>
            <a:off x="4648320" y="3505320"/>
            <a:ext cx="15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44760" y="4896000"/>
            <a:ext cx="62071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07000" bIns="207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obot de manuten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239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7620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Image 3" descr=""/>
          <p:cNvPicPr/>
          <p:nvPr/>
        </p:nvPicPr>
        <p:blipFill>
          <a:blip r:embed="rId1"/>
          <a:stretch/>
        </p:blipFill>
        <p:spPr>
          <a:xfrm>
            <a:off x="1822320" y="1052640"/>
            <a:ext cx="565164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31" name="AutoShape 4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76320" y="2818080"/>
              <a:ext cx="1520640" cy="758880"/>
            </a:xfrm>
            <a:prstGeom prst="rect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rotection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collective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1695600" y="1152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664000" y="4896000"/>
            <a:ext cx="446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07000" bIns="207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able élévatrice à rouleaux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2484360" y="789120"/>
            <a:ext cx="482436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38" name="AutoShape 3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Text Box 4"/>
            <p:cNvSpPr/>
            <p:nvPr/>
          </p:nvSpPr>
          <p:spPr>
            <a:xfrm>
              <a:off x="76320" y="4113360"/>
              <a:ext cx="1520640" cy="758880"/>
            </a:xfrm>
            <a:prstGeom prst="rect">
              <a:avLst/>
            </a:prstGeom>
            <a:solidFill>
              <a:srgbClr val="ff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rotection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dividuelle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0" name="Rectangle 5"/>
          <p:cNvSpPr/>
          <p:nvPr/>
        </p:nvSpPr>
        <p:spPr>
          <a:xfrm>
            <a:off x="1695600" y="981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2050920" y="1406520"/>
            <a:ext cx="5846760" cy="43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44" name="AutoShape 4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76320" y="5408640"/>
              <a:ext cx="1520640" cy="75888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structions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695600" y="861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492360" y="5384880"/>
            <a:ext cx="2698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207000" bIns="207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rmation PRA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Image 1" descr=""/>
          <p:cNvPicPr/>
          <p:nvPr/>
        </p:nvPicPr>
        <p:blipFill>
          <a:blip r:embed="rId1"/>
          <a:stretch/>
        </p:blipFill>
        <p:spPr>
          <a:xfrm>
            <a:off x="2795760" y="861840"/>
            <a:ext cx="3647880" cy="45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ituation de travail dangereus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6720" y="936720"/>
            <a:ext cx="6832440" cy="4341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10160" y="3573360"/>
            <a:ext cx="2986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ortir la palett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la machin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985680" y="1081080"/>
            <a:ext cx="351504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Identification du risqu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Rectangle 2"/>
          <p:cNvSpPr/>
          <p:nvPr/>
        </p:nvSpPr>
        <p:spPr>
          <a:xfrm flipV="1">
            <a:off x="5692680" y="1523520"/>
            <a:ext cx="26892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24000" y="2666880"/>
            <a:ext cx="5259240" cy="1879560"/>
          </a:xfrm>
          <a:prstGeom prst="ellipse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s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traignante,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or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pétitif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3216240" y="2714760"/>
            <a:ext cx="5051520" cy="1752480"/>
          </a:xfrm>
          <a:prstGeom prst="ellipse">
            <a:avLst/>
          </a:prstGeom>
          <a:solidFill>
            <a:srgbClr val="ccccff">
              <a:alpha val="50000"/>
            </a:srgbClr>
          </a:solidFill>
          <a:ln cap="sq"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érateu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la machine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3198960" y="2846520"/>
            <a:ext cx="2379600" cy="1520640"/>
          </a:xfrm>
          <a:custGeom>
            <a:avLst/>
            <a:gdLst/>
            <a:ahLst/>
            <a:rect l="l" t="t" r="r" b="b"/>
            <a:pathLst>
              <a:path w="1614" h="1104">
                <a:moveTo>
                  <a:pt x="876" y="0"/>
                </a:moveTo>
                <a:lnTo>
                  <a:pt x="1044" y="60"/>
                </a:lnTo>
                <a:lnTo>
                  <a:pt x="1260" y="144"/>
                </a:lnTo>
                <a:lnTo>
                  <a:pt x="1440" y="252"/>
                </a:lnTo>
                <a:lnTo>
                  <a:pt x="1548" y="366"/>
                </a:lnTo>
                <a:lnTo>
                  <a:pt x="1614" y="480"/>
                </a:lnTo>
                <a:lnTo>
                  <a:pt x="1608" y="564"/>
                </a:lnTo>
                <a:lnTo>
                  <a:pt x="1584" y="654"/>
                </a:lnTo>
                <a:lnTo>
                  <a:pt x="1494" y="792"/>
                </a:lnTo>
                <a:lnTo>
                  <a:pt x="1332" y="900"/>
                </a:lnTo>
                <a:lnTo>
                  <a:pt x="1116" y="1008"/>
                </a:lnTo>
                <a:lnTo>
                  <a:pt x="780" y="1104"/>
                </a:lnTo>
                <a:lnTo>
                  <a:pt x="298" y="914"/>
                </a:lnTo>
                <a:lnTo>
                  <a:pt x="60" y="720"/>
                </a:lnTo>
                <a:lnTo>
                  <a:pt x="0" y="564"/>
                </a:lnTo>
                <a:lnTo>
                  <a:pt x="30" y="402"/>
                </a:lnTo>
                <a:lnTo>
                  <a:pt x="174" y="246"/>
                </a:lnTo>
                <a:lnTo>
                  <a:pt x="492" y="96"/>
                </a:lnTo>
                <a:lnTo>
                  <a:pt x="732" y="0"/>
                </a:lnTo>
                <a:lnTo>
                  <a:pt x="876" y="0"/>
                </a:lnTo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2857680" y="2381400"/>
            <a:ext cx="1139760" cy="798480"/>
          </a:xfrm>
          <a:prstGeom prst="line">
            <a:avLst/>
          </a:prstGeom>
          <a:ln cap="sq" w="381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Freeform 9"/>
          <p:cNvSpPr/>
          <p:nvPr/>
        </p:nvSpPr>
        <p:spPr>
          <a:xfrm rot="5760000">
            <a:off x="3771000" y="4410720"/>
            <a:ext cx="1152360" cy="2714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67680 h 271440"/>
              <a:gd name="textAreaBottom" fmla="*/ 203760 h 271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2160720" y="5111640"/>
            <a:ext cx="4392360" cy="925560"/>
          </a:xfrm>
          <a:custGeom>
            <a:avLst/>
            <a:gdLst>
              <a:gd name="textAreaLeft" fmla="*/ 1002600 w 4392360"/>
              <a:gd name="textAreaRight" fmla="*/ 3389760 w 4392360"/>
              <a:gd name="textAreaTop" fmla="*/ 211320 h 925560"/>
              <a:gd name="textAreaBottom" fmla="*/ 714240 h 925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135320" y="3243240"/>
            <a:ext cx="849600" cy="528840"/>
          </a:xfrm>
          <a:prstGeom prst="irregularSeal1">
            <a:avLst/>
          </a:prstGeom>
          <a:solidFill>
            <a:srgbClr val="ffff00"/>
          </a:solidFill>
          <a:ln cap="sq"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905440" y="762120"/>
            <a:ext cx="2843280" cy="168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uvements impliquant des gestes et postures inhabituel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Line 13"/>
          <p:cNvSpPr/>
          <p:nvPr/>
        </p:nvSpPr>
        <p:spPr>
          <a:xfrm flipV="1">
            <a:off x="4772160" y="2381400"/>
            <a:ext cx="1204920" cy="1063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14"/>
          <p:cNvSpPr/>
          <p:nvPr/>
        </p:nvSpPr>
        <p:spPr>
          <a:xfrm flipH="1">
            <a:off x="576360" y="936720"/>
            <a:ext cx="2334960" cy="1463760"/>
          </a:xfrm>
          <a:prstGeom prst="rect">
            <a:avLst/>
          </a:prstGeom>
          <a:solidFill>
            <a:srgbClr val="b2b2b2"/>
          </a:solidFill>
          <a:ln cap="sq"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r,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placer,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er d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rges lourd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Estimation et évaluation du risqu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9600" y="1270080"/>
            <a:ext cx="7984800" cy="43178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47640" y="3095640"/>
            <a:ext cx="1584360" cy="576360"/>
          </a:xfrm>
          <a:prstGeom prst="rect">
            <a:avLst/>
          </a:prstGeom>
          <a:solidFill>
            <a:srgbClr val="47ffd1">
              <a:alpha val="50000"/>
            </a:srgbClr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859280" y="4584600"/>
            <a:ext cx="1260360" cy="863640"/>
          </a:xfrm>
          <a:prstGeom prst="rect">
            <a:avLst/>
          </a:prstGeom>
          <a:solidFill>
            <a:srgbClr val="47ffd1">
              <a:alpha val="50000"/>
            </a:srgbClr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Multiplier 9"/>
          <p:cNvSpPr/>
          <p:nvPr/>
        </p:nvSpPr>
        <p:spPr>
          <a:xfrm>
            <a:off x="5003640" y="3095640"/>
            <a:ext cx="863640" cy="765000"/>
          </a:xfrm>
          <a:custGeom>
            <a:avLst/>
            <a:gdLst/>
            <a:ahLst/>
            <a:rect l="l" t="t" r="r" b="b"/>
            <a:pathLst>
              <a:path w="863240" h="765423">
                <a:moveTo>
                  <a:pt x="147610" y="251186"/>
                </a:moveTo>
                <a:lnTo>
                  <a:pt x="267048" y="116485"/>
                </a:lnTo>
                <a:lnTo>
                  <a:pt x="431620" y="262409"/>
                </a:lnTo>
                <a:lnTo>
                  <a:pt x="596192" y="116485"/>
                </a:lnTo>
                <a:lnTo>
                  <a:pt x="715630" y="251186"/>
                </a:lnTo>
                <a:lnTo>
                  <a:pt x="567297" y="382712"/>
                </a:lnTo>
                <a:lnTo>
                  <a:pt x="715630" y="514237"/>
                </a:lnTo>
                <a:lnTo>
                  <a:pt x="596192" y="648938"/>
                </a:lnTo>
                <a:lnTo>
                  <a:pt x="431620" y="503014"/>
                </a:lnTo>
                <a:lnTo>
                  <a:pt x="267048" y="648938"/>
                </a:lnTo>
                <a:lnTo>
                  <a:pt x="147610" y="514237"/>
                </a:lnTo>
                <a:lnTo>
                  <a:pt x="295943" y="382712"/>
                </a:lnTo>
                <a:lnTo>
                  <a:pt x="147610" y="251186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72" name="AutoShape 3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76320" y="1522440"/>
              <a:ext cx="1520640" cy="758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révention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trinsèque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4" name="Text Box 5"/>
          <p:cNvSpPr/>
          <p:nvPr/>
        </p:nvSpPr>
        <p:spPr>
          <a:xfrm>
            <a:off x="4648320" y="3505320"/>
            <a:ext cx="15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697040" y="5653080"/>
            <a:ext cx="6989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yeur motorisé à rouleaux pour évacu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palette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Image 2" descr=""/>
          <p:cNvPicPr/>
          <p:nvPr/>
        </p:nvPicPr>
        <p:blipFill>
          <a:blip r:embed="rId1"/>
          <a:stretch/>
        </p:blipFill>
        <p:spPr>
          <a:xfrm>
            <a:off x="2698920" y="1197000"/>
            <a:ext cx="535464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79" name="AutoShape 4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76320" y="2818080"/>
              <a:ext cx="1520640" cy="758880"/>
            </a:xfrm>
            <a:prstGeom prst="rect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rotection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collective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>
            <a:off x="1695600" y="1152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195640" y="5516640"/>
            <a:ext cx="5373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palette motorisé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2057400" y="1154160"/>
            <a:ext cx="56498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5" name="Group 2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86" name="AutoShape 3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Text Box 4"/>
            <p:cNvSpPr/>
            <p:nvPr/>
          </p:nvSpPr>
          <p:spPr>
            <a:xfrm>
              <a:off x="76320" y="4113360"/>
              <a:ext cx="1520640" cy="758880"/>
            </a:xfrm>
            <a:prstGeom prst="rect">
              <a:avLst/>
            </a:prstGeom>
            <a:solidFill>
              <a:srgbClr val="ff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rotection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dividuelle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8" name="Rectangle 5"/>
          <p:cNvSpPr/>
          <p:nvPr/>
        </p:nvSpPr>
        <p:spPr>
          <a:xfrm>
            <a:off x="1695600" y="981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1333440" y="1341360"/>
            <a:ext cx="2374920" cy="1943280"/>
          </a:xfrm>
          <a:prstGeom prst="rect">
            <a:avLst/>
          </a:prstGeom>
          <a:ln w="0">
            <a:noFill/>
          </a:ln>
        </p:spPr>
      </p:pic>
      <p:pic>
        <p:nvPicPr>
          <p:cNvPr id="190" name="Image 10" descr=""/>
          <p:cNvPicPr/>
          <p:nvPr/>
        </p:nvPicPr>
        <p:blipFill>
          <a:blip r:embed="rId2"/>
          <a:stretch/>
        </p:blipFill>
        <p:spPr>
          <a:xfrm>
            <a:off x="1708200" y="401004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191" name="Image 1" descr=""/>
          <p:cNvPicPr/>
          <p:nvPr/>
        </p:nvPicPr>
        <p:blipFill>
          <a:blip r:embed="rId3"/>
          <a:stretch/>
        </p:blipFill>
        <p:spPr>
          <a:xfrm>
            <a:off x="3740040" y="1009800"/>
            <a:ext cx="5219640" cy="3211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5148360" y="4251240"/>
            <a:ext cx="2303280" cy="23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Démarch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" name="Image 3" descr=""/>
          <p:cNvPicPr/>
          <p:nvPr/>
        </p:nvPicPr>
        <p:blipFill>
          <a:blip r:embed="rId1"/>
          <a:stretch/>
        </p:blipFill>
        <p:spPr>
          <a:xfrm>
            <a:off x="3586320" y="863640"/>
            <a:ext cx="5349600" cy="5661000"/>
          </a:xfrm>
          <a:prstGeom prst="rect">
            <a:avLst/>
          </a:prstGeom>
          <a:ln w="0">
            <a:noFill/>
          </a:ln>
        </p:spPr>
      </p:pic>
      <p:pic>
        <p:nvPicPr>
          <p:cNvPr id="55" name="Image 4" descr=""/>
          <p:cNvPicPr/>
          <p:nvPr/>
        </p:nvPicPr>
        <p:blipFill>
          <a:blip r:embed="rId2"/>
          <a:stretch/>
        </p:blipFill>
        <p:spPr>
          <a:xfrm>
            <a:off x="0" y="579600"/>
            <a:ext cx="2544840" cy="1655640"/>
          </a:xfrm>
          <a:prstGeom prst="rect">
            <a:avLst/>
          </a:prstGeom>
          <a:ln w="0">
            <a:noFill/>
          </a:ln>
        </p:spPr>
      </p:pic>
      <p:sp>
        <p:nvSpPr>
          <p:cNvPr id="56" name="Flèche : gauche 5"/>
          <p:cNvSpPr/>
          <p:nvPr/>
        </p:nvSpPr>
        <p:spPr>
          <a:xfrm>
            <a:off x="2544840" y="1227240"/>
            <a:ext cx="1079280" cy="360360"/>
          </a:xfrm>
          <a:prstGeom prst="leftArrow">
            <a:avLst>
              <a:gd name="adj1" fmla="val 50000"/>
              <a:gd name="adj2" fmla="val 4991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" name="Image 6" descr=""/>
          <p:cNvPicPr/>
          <p:nvPr/>
        </p:nvPicPr>
        <p:blipFill>
          <a:blip r:embed="rId3"/>
          <a:stretch/>
        </p:blipFill>
        <p:spPr>
          <a:xfrm>
            <a:off x="165240" y="2489040"/>
            <a:ext cx="2260440" cy="1222560"/>
          </a:xfrm>
          <a:prstGeom prst="rect">
            <a:avLst/>
          </a:prstGeom>
          <a:ln w="0">
            <a:noFill/>
          </a:ln>
        </p:spPr>
      </p:pic>
      <p:sp>
        <p:nvSpPr>
          <p:cNvPr id="58" name="Flèche : gauche 7"/>
          <p:cNvSpPr/>
          <p:nvPr/>
        </p:nvSpPr>
        <p:spPr>
          <a:xfrm>
            <a:off x="2544840" y="2840040"/>
            <a:ext cx="1079280" cy="360360"/>
          </a:xfrm>
          <a:prstGeom prst="leftArrow">
            <a:avLst>
              <a:gd name="adj1" fmla="val 50000"/>
              <a:gd name="adj2" fmla="val 4991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Image 8" descr=""/>
          <p:cNvPicPr/>
          <p:nvPr/>
        </p:nvPicPr>
        <p:blipFill>
          <a:blip r:embed="rId4"/>
          <a:stretch/>
        </p:blipFill>
        <p:spPr>
          <a:xfrm>
            <a:off x="166680" y="4389480"/>
            <a:ext cx="2378160" cy="2135160"/>
          </a:xfrm>
          <a:prstGeom prst="rect">
            <a:avLst/>
          </a:prstGeom>
          <a:ln w="0">
            <a:noFill/>
          </a:ln>
        </p:spPr>
      </p:pic>
      <p:sp>
        <p:nvSpPr>
          <p:cNvPr id="60" name="Flèche : gauche 9"/>
          <p:cNvSpPr/>
          <p:nvPr/>
        </p:nvSpPr>
        <p:spPr>
          <a:xfrm>
            <a:off x="2544840" y="5175360"/>
            <a:ext cx="1079280" cy="360360"/>
          </a:xfrm>
          <a:prstGeom prst="leftArrow">
            <a:avLst>
              <a:gd name="adj1" fmla="val 50000"/>
              <a:gd name="adj2" fmla="val 4991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olution de préven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76320" y="685800"/>
            <a:ext cx="1520640" cy="5788080"/>
            <a:chOff x="76320" y="685800"/>
            <a:chExt cx="1520640" cy="5788080"/>
          </a:xfrm>
        </p:grpSpPr>
        <p:sp>
          <p:nvSpPr>
            <p:cNvPr id="195" name="AutoShape 4"/>
            <p:cNvSpPr/>
            <p:nvPr/>
          </p:nvSpPr>
          <p:spPr>
            <a:xfrm rot="10800000">
              <a:off x="458280" y="685800"/>
              <a:ext cx="682920" cy="5788080"/>
            </a:xfrm>
            <a:prstGeom prst="downArrow">
              <a:avLst>
                <a:gd name="adj1" fmla="val 55954"/>
                <a:gd name="adj2" fmla="val 7910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cc9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6" name="Text Box 5"/>
            <p:cNvSpPr/>
            <p:nvPr/>
          </p:nvSpPr>
          <p:spPr>
            <a:xfrm>
              <a:off x="76320" y="5408640"/>
              <a:ext cx="1520640" cy="75888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structions</a:t>
              </a:r>
              <a:endParaRPr b="1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7" name="Rectangle 6"/>
          <p:cNvSpPr/>
          <p:nvPr/>
        </p:nvSpPr>
        <p:spPr>
          <a:xfrm>
            <a:off x="1695600" y="861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232000" y="5340240"/>
            <a:ext cx="6203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207000" bIns="207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che de post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Image 2" descr=""/>
          <p:cNvPicPr/>
          <p:nvPr/>
        </p:nvPicPr>
        <p:blipFill>
          <a:blip r:embed="rId1"/>
          <a:stretch/>
        </p:blipFill>
        <p:spPr>
          <a:xfrm>
            <a:off x="1763640" y="752400"/>
            <a:ext cx="635976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Synthèse des solutions à mettre en plac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695600" y="861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Image 2" descr=""/>
          <p:cNvPicPr/>
          <p:nvPr/>
        </p:nvPicPr>
        <p:blipFill>
          <a:blip r:embed="rId1"/>
          <a:stretch/>
        </p:blipFill>
        <p:spPr>
          <a:xfrm>
            <a:off x="5724360" y="879480"/>
            <a:ext cx="2795760" cy="2100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2"/>
          <a:stretch/>
        </p:blipFill>
        <p:spPr>
          <a:xfrm>
            <a:off x="374760" y="3168720"/>
            <a:ext cx="1549440" cy="155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1089000" y="4913280"/>
            <a:ext cx="1903320" cy="155880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0" descr=""/>
          <p:cNvPicPr/>
          <p:nvPr/>
        </p:nvPicPr>
        <p:blipFill>
          <a:blip r:embed="rId4"/>
          <a:stretch/>
        </p:blipFill>
        <p:spPr>
          <a:xfrm>
            <a:off x="2216160" y="3168720"/>
            <a:ext cx="1550880" cy="155088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2" descr=""/>
          <p:cNvPicPr/>
          <p:nvPr/>
        </p:nvPicPr>
        <p:blipFill>
          <a:blip r:embed="rId5"/>
          <a:stretch/>
        </p:blipFill>
        <p:spPr>
          <a:xfrm>
            <a:off x="395280" y="1098720"/>
            <a:ext cx="3057480" cy="188100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4" descr=""/>
          <p:cNvPicPr/>
          <p:nvPr/>
        </p:nvPicPr>
        <p:blipFill>
          <a:blip r:embed="rId6"/>
          <a:stretch/>
        </p:blipFill>
        <p:spPr>
          <a:xfrm>
            <a:off x="5686560" y="3068640"/>
            <a:ext cx="282564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183b97"/>
                </a:solidFill>
                <a:latin typeface="Comic Sans MS"/>
              </a:rPr>
              <a:t>processus d'apparition d'un dommag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268960" y="4292640"/>
            <a:ext cx="3911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1" lang="fr-FR" sz="2000" spc="-1" strike="noStrike">
                <a:solidFill>
                  <a:srgbClr val="00b050"/>
                </a:solidFill>
                <a:latin typeface="Verdana"/>
              </a:rPr>
              <a:t>l’événement déclencheur</a:t>
            </a:r>
            <a:br>
              <a:rPr sz="2000"/>
            </a:br>
            <a:r>
              <a:rPr b="1" lang="fr-FR" sz="2000" spc="-1" strike="noStrike">
                <a:solidFill>
                  <a:srgbClr val="00b050"/>
                </a:solidFill>
                <a:latin typeface="Verdana"/>
              </a:rPr>
              <a:t>est caractérisé par sa</a:t>
            </a:r>
            <a:br>
              <a:rPr sz="2000"/>
            </a:br>
            <a:r>
              <a:rPr b="1" lang="fr-FR" sz="2000" spc="-1" strike="noStrike">
                <a:solidFill>
                  <a:srgbClr val="00b050"/>
                </a:solidFill>
                <a:latin typeface="Verdana"/>
              </a:rPr>
              <a:t>probabilité d’apparition</a:t>
            </a:r>
            <a:r>
              <a:rPr b="1" lang="fr-FR" sz="24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-36360" y="4653000"/>
            <a:ext cx="4495680" cy="1480320"/>
            <a:chOff x="-36360" y="4653000"/>
            <a:chExt cx="4495680" cy="1480320"/>
          </a:xfrm>
        </p:grpSpPr>
        <p:sp>
          <p:nvSpPr>
            <p:cNvPr id="64" name="Text Box 5"/>
            <p:cNvSpPr/>
            <p:nvPr/>
          </p:nvSpPr>
          <p:spPr>
            <a:xfrm>
              <a:off x="-36360" y="5796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600" spc="-1" strike="noStrike">
                  <a:solidFill>
                    <a:srgbClr val="00b050"/>
                  </a:solidFill>
                  <a:latin typeface="Verdana"/>
                </a:rPr>
                <a:t>décès</a:t>
              </a:r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-36360" y="4653000"/>
              <a:ext cx="4495680" cy="1099440"/>
              <a:chOff x="-36360" y="4653000"/>
              <a:chExt cx="4495680" cy="1099440"/>
            </a:xfrm>
          </p:grpSpPr>
          <p:sp>
            <p:nvSpPr>
              <p:cNvPr id="66" name="Text Box 7"/>
              <p:cNvSpPr/>
              <p:nvPr/>
            </p:nvSpPr>
            <p:spPr>
              <a:xfrm>
                <a:off x="-36360" y="4653000"/>
                <a:ext cx="396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fr-FR" sz="1600" spc="-1" strike="noStrike">
                    <a:solidFill>
                      <a:srgbClr val="00b050"/>
                    </a:solidFill>
                    <a:latin typeface="Verdana"/>
                  </a:rPr>
                  <a:t>blessure superficielle sans arrêt</a:t>
                </a:r>
                <a:endParaRPr b="1" lang="en-US" sz="1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-36360" y="5415120"/>
                <a:ext cx="3124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fr-FR" sz="1600" spc="-1" strike="noStrike">
                    <a:solidFill>
                      <a:srgbClr val="00b050"/>
                    </a:solidFill>
                    <a:latin typeface="Verdana"/>
                  </a:rPr>
                  <a:t>blessure avec séquelle</a:t>
                </a:r>
                <a:endParaRPr b="1" lang="en-US" sz="1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Text Box 9"/>
              <p:cNvSpPr/>
              <p:nvPr/>
            </p:nvSpPr>
            <p:spPr>
              <a:xfrm>
                <a:off x="-36360" y="5034240"/>
                <a:ext cx="449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fr-FR" sz="1600" spc="-1" strike="noStrike">
                    <a:solidFill>
                      <a:srgbClr val="00b050"/>
                    </a:solidFill>
                    <a:latin typeface="Verdana"/>
                  </a:rPr>
                  <a:t>blessure grave avec arrêt de travail</a:t>
                </a:r>
                <a:endParaRPr b="1" lang="en-US" sz="1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9" name="Rectangle 10"/>
          <p:cNvSpPr/>
          <p:nvPr/>
        </p:nvSpPr>
        <p:spPr>
          <a:xfrm>
            <a:off x="1780560" y="6272280"/>
            <a:ext cx="55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le dommage est caractérisé par sa gravité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0" name="Group 11"/>
          <p:cNvGrpSpPr/>
          <p:nvPr/>
        </p:nvGrpSpPr>
        <p:grpSpPr>
          <a:xfrm>
            <a:off x="3108240" y="2590920"/>
            <a:ext cx="5438880" cy="2020680"/>
            <a:chOff x="3108240" y="2590920"/>
            <a:chExt cx="5438880" cy="2020680"/>
          </a:xfrm>
        </p:grpSpPr>
        <p:sp>
          <p:nvSpPr>
            <p:cNvPr id="71" name="Oval 12"/>
            <p:cNvSpPr/>
            <p:nvPr/>
          </p:nvSpPr>
          <p:spPr>
            <a:xfrm>
              <a:off x="3108240" y="2590920"/>
              <a:ext cx="5438880" cy="202068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Text Box 13"/>
            <p:cNvSpPr/>
            <p:nvPr/>
          </p:nvSpPr>
          <p:spPr>
            <a:xfrm>
              <a:off x="6019920" y="3276720"/>
              <a:ext cx="1676160" cy="39888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Verdana"/>
                </a:rPr>
                <a:t>Personne</a:t>
              </a: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3" name="Group 14"/>
          <p:cNvGrpSpPr/>
          <p:nvPr/>
        </p:nvGrpSpPr>
        <p:grpSpPr>
          <a:xfrm>
            <a:off x="228600" y="2590920"/>
            <a:ext cx="5440320" cy="2020680"/>
            <a:chOff x="228600" y="2590920"/>
            <a:chExt cx="5440320" cy="2020680"/>
          </a:xfrm>
        </p:grpSpPr>
        <p:sp>
          <p:nvSpPr>
            <p:cNvPr id="74" name="Oval 15"/>
            <p:cNvSpPr/>
            <p:nvPr/>
          </p:nvSpPr>
          <p:spPr>
            <a:xfrm>
              <a:off x="228600" y="2590920"/>
              <a:ext cx="5440320" cy="2020680"/>
            </a:xfrm>
            <a:prstGeom prst="ellipse">
              <a:avLst/>
            </a:prstGeom>
            <a:solidFill>
              <a:srgbClr val="ff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684360" y="306864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000" spc="-1" strike="noStrike">
                  <a:solidFill>
                    <a:srgbClr val="993300"/>
                  </a:solidFill>
                  <a:latin typeface="Verdana"/>
                </a:rPr>
                <a:t>Danger ou phénomène dangereux</a:t>
              </a: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6" name="Group 17"/>
          <p:cNvGrpSpPr/>
          <p:nvPr/>
        </p:nvGrpSpPr>
        <p:grpSpPr>
          <a:xfrm>
            <a:off x="304560" y="1295280"/>
            <a:ext cx="5362920" cy="3200400"/>
            <a:chOff x="304560" y="1295280"/>
            <a:chExt cx="5362920" cy="3200400"/>
          </a:xfrm>
        </p:grpSpPr>
        <p:sp>
          <p:nvSpPr>
            <p:cNvPr id="77" name="Freeform 18"/>
            <p:cNvSpPr/>
            <p:nvPr/>
          </p:nvSpPr>
          <p:spPr>
            <a:xfrm>
              <a:off x="3105000" y="2743200"/>
              <a:ext cx="2562480" cy="1752480"/>
            </a:xfrm>
            <a:custGeom>
              <a:avLst/>
              <a:gdLst/>
              <a:ahLst/>
              <a:rect l="l" t="t" r="r" b="b"/>
              <a:pathLst>
                <a:path w="1614" h="1104">
                  <a:moveTo>
                    <a:pt x="876" y="0"/>
                  </a:moveTo>
                  <a:lnTo>
                    <a:pt x="1044" y="60"/>
                  </a:lnTo>
                  <a:lnTo>
                    <a:pt x="1260" y="144"/>
                  </a:lnTo>
                  <a:lnTo>
                    <a:pt x="1440" y="252"/>
                  </a:lnTo>
                  <a:lnTo>
                    <a:pt x="1548" y="366"/>
                  </a:lnTo>
                  <a:lnTo>
                    <a:pt x="1614" y="480"/>
                  </a:lnTo>
                  <a:lnTo>
                    <a:pt x="1608" y="564"/>
                  </a:lnTo>
                  <a:lnTo>
                    <a:pt x="1584" y="654"/>
                  </a:lnTo>
                  <a:lnTo>
                    <a:pt x="1494" y="792"/>
                  </a:lnTo>
                  <a:lnTo>
                    <a:pt x="1332" y="900"/>
                  </a:lnTo>
                  <a:lnTo>
                    <a:pt x="1116" y="1008"/>
                  </a:lnTo>
                  <a:lnTo>
                    <a:pt x="780" y="1104"/>
                  </a:lnTo>
                  <a:lnTo>
                    <a:pt x="298" y="914"/>
                  </a:lnTo>
                  <a:lnTo>
                    <a:pt x="60" y="720"/>
                  </a:lnTo>
                  <a:lnTo>
                    <a:pt x="0" y="564"/>
                  </a:lnTo>
                  <a:lnTo>
                    <a:pt x="30" y="402"/>
                  </a:lnTo>
                  <a:lnTo>
                    <a:pt x="174" y="246"/>
                  </a:lnTo>
                  <a:lnTo>
                    <a:pt x="492" y="96"/>
                  </a:lnTo>
                  <a:lnTo>
                    <a:pt x="732" y="0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 flipH="1">
              <a:off x="304200" y="1295280"/>
              <a:ext cx="2514600" cy="98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000" spc="-1" strike="noStrike">
                  <a:solidFill>
                    <a:srgbClr val="fefeea"/>
                  </a:solidFill>
                  <a:latin typeface="Verdana"/>
                </a:rPr>
                <a:t>situation dangereuse</a:t>
              </a: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Line 20"/>
            <p:cNvSpPr/>
            <p:nvPr/>
          </p:nvSpPr>
          <p:spPr>
            <a:xfrm flipH="1" flipV="1">
              <a:off x="2742840" y="2209680"/>
              <a:ext cx="1219320" cy="914400"/>
            </a:xfrm>
            <a:prstGeom prst="line">
              <a:avLst/>
            </a:prstGeom>
            <a:ln w="38160">
              <a:solidFill>
                <a:srgbClr val="ffb9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4114800" y="1295280"/>
            <a:ext cx="4503600" cy="2514600"/>
            <a:chOff x="4114800" y="1295280"/>
            <a:chExt cx="4503600" cy="2514600"/>
          </a:xfrm>
        </p:grpSpPr>
        <p:sp>
          <p:nvSpPr>
            <p:cNvPr id="81" name="AutoShape 22"/>
            <p:cNvSpPr/>
            <p:nvPr/>
          </p:nvSpPr>
          <p:spPr>
            <a:xfrm>
              <a:off x="4114800" y="3200400"/>
              <a:ext cx="914400" cy="609480"/>
            </a:xfrm>
            <a:prstGeom prst="irregularSeal1">
              <a:avLst/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6019920" y="1295280"/>
              <a:ext cx="2598480" cy="9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000" spc="-1" strike="noStrike">
                  <a:solidFill>
                    <a:srgbClr val="fefeea"/>
                  </a:solidFill>
                  <a:latin typeface="Verdana"/>
                </a:rPr>
                <a:t>événement</a:t>
              </a: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000" spc="-1" strike="noStrike">
                  <a:solidFill>
                    <a:srgbClr val="fefeea"/>
                  </a:solidFill>
                  <a:latin typeface="Verdana"/>
                </a:rPr>
                <a:t>déclencheur</a:t>
              </a:r>
              <a:endParaRPr b="1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Line 24"/>
            <p:cNvSpPr/>
            <p:nvPr/>
          </p:nvSpPr>
          <p:spPr>
            <a:xfrm flipV="1">
              <a:off x="4800600" y="2209320"/>
              <a:ext cx="1295280" cy="12193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AutoShape 25"/>
          <p:cNvSpPr/>
          <p:nvPr/>
        </p:nvSpPr>
        <p:spPr>
          <a:xfrm rot="5782800">
            <a:off x="3672360" y="4556520"/>
            <a:ext cx="1328760" cy="291960"/>
          </a:xfrm>
          <a:custGeom>
            <a:avLst/>
            <a:gdLst>
              <a:gd name="textAreaLeft" fmla="*/ 207360 w 1328760"/>
              <a:gd name="textAreaRight" fmla="*/ 1162800 w 1328760"/>
              <a:gd name="textAreaTop" fmla="*/ 73080 h 291960"/>
              <a:gd name="textAreaBottom" fmla="*/ 219240 h 2919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2666880" y="5334120"/>
            <a:ext cx="3353040" cy="91440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efeea"/>
                </a:solidFill>
                <a:latin typeface="Verdana"/>
              </a:rPr>
              <a:t>domm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4680" y="3213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Estimation de la probabilité d’apparition du dommage 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Estimation du risqu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08000" y="836640"/>
            <a:ext cx="8712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Estimation de la gravité 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Microsoft YaHei"/>
              </a:rPr>
              <a:t>Faible 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 accident de travail (AT) ou maladie professionnelle (MP) sans arrêt de travai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Microsoft YaHei"/>
              </a:rPr>
              <a:t>Moyen 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 AT ou MP avec arrêt de travai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Microsoft YaHei"/>
              </a:rPr>
              <a:t>Grave 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 AT ou MP entrainant une incapacité permanente partielle (IPP)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Microsoft YaHei"/>
              </a:rPr>
              <a:t>Très grave 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Microsoft YaHei"/>
              </a:rPr>
              <a:t> AT ou MP morte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Image 7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5956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500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LES NIVEAUX DE PREVEN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761760"/>
            <a:ext cx="885672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éviter ou supprimer les risques d’accidents du travail ou de maladies professionnelles, il existe des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esures de préven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utilisées en entreprise. Ces mesures sont classées par niveau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Niveau 1, prévention intrinsèque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 Il correspond à la suppression et/ou la réduction du risque (ex : automatisation d’un système, remplacement d’un produit dangereux par un produit qui ne l’est pas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Niveau 2 : protection collective et individuelle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l correspond aux moyens de protection collective (rideaux de soudure, ventilations, etc.) et aux moyens de protection individuelle (ex : masque de soudure, chaussures de sécurité, harnais de sécurité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Niveau 3 : formation et information de l’opérateur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l correspond à la formation (ex : formation  à la prévention des risques liés à l’activité physique (PRAP)) et à l’information (ex : affiches sur les méfaits du bruit, panneaux de signalisation, fiches de poste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TRAVAIL DEMANDE</a:t>
            </a:r>
            <a:br>
              <a:rPr sz="2800"/>
            </a:b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(pour une des 2 machine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9810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dentifier les situations de travail à risque pour l’opér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ablir pour chaque risque le processus d’apparition d’un dom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valuer et estimer le ri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roposer des mesures de pré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Une situation de travail dangereus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050920" y="1268280"/>
            <a:ext cx="630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914400"/>
            <a:ext cx="8713800" cy="457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02240" y="4535640"/>
            <a:ext cx="360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207000" bIns="207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se des cart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08000" y="4722840"/>
            <a:ext cx="3070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roduction d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rt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179280" y="914400"/>
            <a:ext cx="2774880" cy="36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911920" y="923760"/>
            <a:ext cx="2981160" cy="371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2949480" y="923760"/>
            <a:ext cx="2954520" cy="3225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411280" y="4024440"/>
            <a:ext cx="360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207000" bIns="207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placer des cart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Identification du risqu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2"/>
          <p:cNvSpPr/>
          <p:nvPr/>
        </p:nvSpPr>
        <p:spPr>
          <a:xfrm flipV="1">
            <a:off x="5692680" y="1523520"/>
            <a:ext cx="26892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324000" y="2666880"/>
            <a:ext cx="5259240" cy="1879560"/>
          </a:xfrm>
          <a:prstGeom prst="ellipse">
            <a:avLst/>
          </a:pr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s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traignante,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or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pétitif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216240" y="2714760"/>
            <a:ext cx="5051520" cy="1752480"/>
          </a:xfrm>
          <a:prstGeom prst="ellipse">
            <a:avLst/>
          </a:prstGeom>
          <a:solidFill>
            <a:srgbClr val="ccccff">
              <a:alpha val="50000"/>
            </a:srgbClr>
          </a:solidFill>
          <a:ln cap="sq"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érateu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la machine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3198960" y="2846520"/>
            <a:ext cx="2379600" cy="1520640"/>
          </a:xfrm>
          <a:custGeom>
            <a:avLst/>
            <a:gdLst/>
            <a:ahLst/>
            <a:rect l="l" t="t" r="r" b="b"/>
            <a:pathLst>
              <a:path w="1614" h="1104">
                <a:moveTo>
                  <a:pt x="876" y="0"/>
                </a:moveTo>
                <a:lnTo>
                  <a:pt x="1044" y="60"/>
                </a:lnTo>
                <a:lnTo>
                  <a:pt x="1260" y="144"/>
                </a:lnTo>
                <a:lnTo>
                  <a:pt x="1440" y="252"/>
                </a:lnTo>
                <a:lnTo>
                  <a:pt x="1548" y="366"/>
                </a:lnTo>
                <a:lnTo>
                  <a:pt x="1614" y="480"/>
                </a:lnTo>
                <a:lnTo>
                  <a:pt x="1608" y="564"/>
                </a:lnTo>
                <a:lnTo>
                  <a:pt x="1584" y="654"/>
                </a:lnTo>
                <a:lnTo>
                  <a:pt x="1494" y="792"/>
                </a:lnTo>
                <a:lnTo>
                  <a:pt x="1332" y="900"/>
                </a:lnTo>
                <a:lnTo>
                  <a:pt x="1116" y="1008"/>
                </a:lnTo>
                <a:lnTo>
                  <a:pt x="780" y="1104"/>
                </a:lnTo>
                <a:lnTo>
                  <a:pt x="298" y="914"/>
                </a:lnTo>
                <a:lnTo>
                  <a:pt x="60" y="720"/>
                </a:lnTo>
                <a:lnTo>
                  <a:pt x="0" y="564"/>
                </a:lnTo>
                <a:lnTo>
                  <a:pt x="30" y="402"/>
                </a:lnTo>
                <a:lnTo>
                  <a:pt x="174" y="246"/>
                </a:lnTo>
                <a:lnTo>
                  <a:pt x="492" y="96"/>
                </a:lnTo>
                <a:lnTo>
                  <a:pt x="732" y="0"/>
                </a:lnTo>
                <a:lnTo>
                  <a:pt x="876" y="0"/>
                </a:lnTo>
                <a:close/>
              </a:path>
            </a:pathLst>
          </a:cu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2857680" y="2381400"/>
            <a:ext cx="1139760" cy="798480"/>
          </a:xfrm>
          <a:prstGeom prst="line">
            <a:avLst/>
          </a:prstGeom>
          <a:ln cap="sq" w="381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9"/>
          <p:cNvSpPr/>
          <p:nvPr/>
        </p:nvSpPr>
        <p:spPr>
          <a:xfrm rot="5760000">
            <a:off x="3771000" y="4410720"/>
            <a:ext cx="1152360" cy="2714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67680 h 271440"/>
              <a:gd name="textAreaBottom" fmla="*/ 203760 h 271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2160720" y="5111640"/>
            <a:ext cx="4392360" cy="925560"/>
          </a:xfrm>
          <a:custGeom>
            <a:avLst/>
            <a:gdLst>
              <a:gd name="textAreaLeft" fmla="*/ 1002600 w 4392360"/>
              <a:gd name="textAreaRight" fmla="*/ 3389760 w 4392360"/>
              <a:gd name="textAreaTop" fmla="*/ 211320 h 925560"/>
              <a:gd name="textAreaBottom" fmla="*/ 714240 h 925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4135320" y="3243240"/>
            <a:ext cx="849600" cy="528840"/>
          </a:xfrm>
          <a:prstGeom prst="irregularSeal1">
            <a:avLst/>
          </a:prstGeom>
          <a:solidFill>
            <a:srgbClr val="ffff00"/>
          </a:solidFill>
          <a:ln cap="sq"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905440" y="762120"/>
            <a:ext cx="2843280" cy="168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uvements impliquant des gestes et postures inhabituel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4772160" y="2381400"/>
            <a:ext cx="1204920" cy="1063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14"/>
          <p:cNvSpPr/>
          <p:nvPr/>
        </p:nvSpPr>
        <p:spPr>
          <a:xfrm flipH="1">
            <a:off x="576360" y="936720"/>
            <a:ext cx="2334960" cy="1463760"/>
          </a:xfrm>
          <a:prstGeom prst="rect">
            <a:avLst/>
          </a:prstGeom>
          <a:solidFill>
            <a:srgbClr val="b2b2b2"/>
          </a:solidFill>
          <a:ln cap="sq"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r,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placer,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er d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rges lourd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Estimation et évaluation du risqu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82480" y="1298520"/>
            <a:ext cx="7985160" cy="4318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647640" y="3095640"/>
            <a:ext cx="1584360" cy="576360"/>
          </a:xfrm>
          <a:prstGeom prst="rect">
            <a:avLst/>
          </a:prstGeom>
          <a:solidFill>
            <a:srgbClr val="47ffd1">
              <a:alpha val="50000"/>
            </a:srgbClr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191280" y="4608360"/>
            <a:ext cx="1584360" cy="863640"/>
          </a:xfrm>
          <a:prstGeom prst="rect">
            <a:avLst/>
          </a:prstGeom>
          <a:solidFill>
            <a:srgbClr val="47ffd1">
              <a:alpha val="50000"/>
            </a:srgbClr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Multiplier 1"/>
          <p:cNvSpPr/>
          <p:nvPr/>
        </p:nvSpPr>
        <p:spPr>
          <a:xfrm>
            <a:off x="6119640" y="3095640"/>
            <a:ext cx="863640" cy="765000"/>
          </a:xfrm>
          <a:custGeom>
            <a:avLst/>
            <a:gdLst/>
            <a:ahLst/>
            <a:rect l="l" t="t" r="r" b="b"/>
            <a:pathLst>
              <a:path w="863240" h="765423">
                <a:moveTo>
                  <a:pt x="147610" y="251186"/>
                </a:moveTo>
                <a:lnTo>
                  <a:pt x="267048" y="116485"/>
                </a:lnTo>
                <a:lnTo>
                  <a:pt x="431620" y="262409"/>
                </a:lnTo>
                <a:lnTo>
                  <a:pt x="596192" y="116485"/>
                </a:lnTo>
                <a:lnTo>
                  <a:pt x="715630" y="251186"/>
                </a:lnTo>
                <a:lnTo>
                  <a:pt x="567297" y="382712"/>
                </a:lnTo>
                <a:lnTo>
                  <a:pt x="715630" y="514237"/>
                </a:lnTo>
                <a:lnTo>
                  <a:pt x="596192" y="648938"/>
                </a:lnTo>
                <a:lnTo>
                  <a:pt x="431620" y="503014"/>
                </a:lnTo>
                <a:lnTo>
                  <a:pt x="267048" y="648938"/>
                </a:lnTo>
                <a:lnTo>
                  <a:pt x="147610" y="514237"/>
                </a:lnTo>
                <a:lnTo>
                  <a:pt x="295943" y="382712"/>
                </a:lnTo>
                <a:lnTo>
                  <a:pt x="147610" y="251186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Cousin Hub</dc:creator>
  <dc:description/>
  <dc:language>en-US</dc:language>
  <cp:lastModifiedBy>Créateur PROFILXP</cp:lastModifiedBy>
  <dcterms:modified xsi:type="dcterms:W3CDTF">2018-03-13T07:59:34Z</dcterms:modified>
  <cp:revision>97</cp:revision>
  <dc:subject/>
  <dc:title>PowerPoint Presentation</dc:title>
</cp:coreProperties>
</file>